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F5BA-3094-4E65-8CF5-F75B851B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ded thi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ncentive structure” to VBP design consid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bullet #1 from “what should be the basis for receiving an incentive” to options for the basis of incentive payments – instead of what the bullet was changed to we may want to ask a differe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957E-38A1-40FF-BEA8-8A3A99485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B05B-4094-43AF-8CD5-349CA8838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DF38-2EA3-49BC-8FEA-BEB51241E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D94B-38F3-4CD4-82E0-8200AEF2F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BCA2-FEEE-4FFE-99AD-278516A05A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A068-4208-4343-BF3F-43919AA49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72DA-FD6B-4D65-9C4F-E7C6CCDE9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1664-0CC1-4725-97EB-B7B2A1EDC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EE40-7C27-4F60-9204-EAFB9A6F6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7AA13-8CF8-42B4-B853-2537D16F5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AAD2-1042-46DB-9C1A-E4C699BAA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1EB1-DF2F-4BCE-AE1A-1F3CEFD38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C102-ECC6-4DD7-BA56-991C09CEA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2514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rence K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5238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648320"/>
            <a:ext cx="52578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dicare Physician Fee Schedule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d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patient or outpatient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ther fac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3003-338E-4D09-952F-3312048B93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actors Influencing Basis of Incentive 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increasing value to Medicare and its benefici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y and other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wer volume professionals/clinics may have les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igher volume professionals/clinics may have more opportunities to receive incentive pay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n-compliant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appropriate incentives to increase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0C73-40F4-48CE-B125-5B4DC8E7DD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funding sources and payment models would be feasible and desir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large does the payment incentive need to b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type of incentive bonus payment is most effect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distribution of incentive payments best achieves the PVBP Plan goal and objectiv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should be the basis for receiving an incentive? Are there strategies that place particular types of professionals, such as rural professionals, at an advantage or disadvantag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the PVBP Plan base incentive payments on payments for all Medicare Physician Fee Schedule services, payments for measured services only, or other fact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0EB7-ABEA-42BA-B2C7-94AA9D106E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0C74-04A8-4ED0-98ED-1F9CE01C76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 and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nding sources and payment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558C-7316-4013-B02C-9C755046F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incentives across providers and setti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 both attainment and improvement to engage professionals at al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large enough incentives to encourage voluntary participation and dr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timely payments to maximize the effectiveness of the incen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4998-576C-4F79-AD8B-25D820A3A5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Medicare program and beneficiary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dget im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feasi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al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0906-8BA8-4927-96CB-FADE5464F2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unding Sources &amp; Payment Model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thin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yond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E8A2-796D-4023-9523-25316BD9BE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-on to base pay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hospital pay-for-reporting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eriodic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PQRI program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onus 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rt of payment is withheld and placed in incentive payment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CC34-064E-49D7-8EF5-0BE8EA8BDD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distribution of incentives is best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hieve the goals of physician VBP Pl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vide consistency with the level of accountability that can be meas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AB90-0941-4126-8139-D08EB2048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arger incentives to smaller number of high performing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ternatively, smaller incentives to larger number of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inancial ris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7E4F-AABF-4C04-BF2C-C86AD69A66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tions for 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solute performance threshol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lative thresholds or percentile ra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nimum performance thres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mprovement in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combination of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vantages/disadvantages by type of p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8CD0-57BD-49AD-9670-D3B0B793C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0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436370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181294680</vt:r8>
  </property>
</Properties>
</file>